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713C-E83F-44D8-A3A5-5BA724F8A6FD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125E-AA0A-47EA-AB0A-505773DCBAA0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FDC7-E497-4D3F-8567-C00C6C69323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20B4-012A-4FAE-81BD-DB7E7FC0630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11760" y="299880"/>
            <a:ext cx="786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The Case for Data Stewardship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Agency Requirements: NASA Data Policy; Version 1.0, Reviewed 6/27/2012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ience.nasa.gov/earth-science/earth-science-data/data-management-plan-guidance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arthdata.nasa.gov/about-eosdis/interfaces" TargetMode="External"/><Relationship Id="rId2" Type="http://schemas.openxmlformats.org/officeDocument/2006/relationships/hyperlink" Target="http://disc.sci.gsfc.nasa.gov/additional/scienceTeam/documents/EvolutionRequirements.doc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arthdata.nasa.gov/about-eosdis/interfaces" TargetMode="External"/><Relationship Id="rId2" Type="http://schemas.openxmlformats.org/officeDocument/2006/relationships/hyperlink" Target="http://earthdata.nasa.gov/about-eosdis/interfaces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The Case for Data Stewardship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Agency Requirement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NASA Data Management Policie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nald Weav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	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6" descr=""/>
          <p:cNvPicPr/>
          <p:nvPr/>
        </p:nvPicPr>
        <p:blipFill>
          <a:blip r:embed="rId1"/>
          <a:stretch/>
        </p:blipFill>
        <p:spPr>
          <a:xfrm>
            <a:off x="558720" y="777240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2"/>
          <p:cNvSpPr/>
          <p:nvPr/>
        </p:nvSpPr>
        <p:spPr>
          <a:xfrm>
            <a:off x="6654960" y="490212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June 28, 2012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3" name="Picture 1" descr="DC-FullColor-01.png"/>
          <p:cNvPicPr/>
          <p:nvPr/>
        </p:nvPicPr>
        <p:blipFill>
          <a:blip r:embed="rId2"/>
          <a:srcRect l="14299" t="37935" r="12845" b="44070"/>
          <a:stretch/>
        </p:blipFill>
        <p:spPr>
          <a:xfrm>
            <a:off x="2440080" y="8077320"/>
            <a:ext cx="467208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 addition to Federal-level requirements, NASA and other agencies have their own requirements and directives, which augment higher level mandates and provide specific guidance in meeting them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Centers, grantees and contractors receiving NASA funding must manage environmental data in compliance with these requirements and directiv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Earth Science data management practices are generally spelled out in grant and contract documen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NASA policy on dissemination and sharing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policy is very clear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SA commits to the full and open sharing of Earth science data obtained from NASA Earth observing satellites, sub-orbital platforms and field campaigns with all users as soon as such data become available”*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1" i="1" lang="en-US" sz="3200" spc="-1" strike="noStrike">
                <a:solidFill>
                  <a:srgbClr val="606060"/>
                </a:solidFill>
                <a:latin typeface="Helvetica Neue"/>
              </a:rPr>
              <a:t>There will be no period of exclusive access to NASA Earth science data.  Following a post-launch checkout period, all data will be made available to the user community”*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*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http://nasascience.nasa.gov/earth-science/earth-science-data/data-information-policy/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8" name="Picture 1" descr="share.pdf"/>
          <p:cNvPicPr/>
          <p:nvPr/>
        </p:nvPicPr>
        <p:blipFill>
          <a:blip r:embed="rId1"/>
          <a:stretch/>
        </p:blipFill>
        <p:spPr>
          <a:xfrm>
            <a:off x="6578640" y="4826160"/>
            <a:ext cx="563868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NASA Data Management Plans (DMP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typically requires a data management plan for satellite, airborne, and field projec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 the Earth sciences specific requirements for data management plans are described in funding documents such as the annual Research Opportunities in Space and Earth Sciences (ROSES) multifaceted research proposal call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393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</a:rPr>
              <a:t>Proposers to NASA ROSES should pay particular attention to language in the specific funding announcement of interest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ere to find Guidance on NASA DMPs?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Earth Science website offers specific guidance on content for a Data Management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science.nasa.gov/earth-science/earth-science-data/data-management-plan-guidance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3" name="Picture 3" descr="dmp.tiff"/>
          <p:cNvPicPr/>
          <p:nvPr/>
        </p:nvPicPr>
        <p:blipFill>
          <a:blip r:embed="rId2"/>
          <a:stretch/>
        </p:blipFill>
        <p:spPr>
          <a:xfrm>
            <a:off x="8559720" y="4419720"/>
            <a:ext cx="3735360" cy="4838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754" name="Picture 4" descr="dmp_page.tiff"/>
          <p:cNvPicPr/>
          <p:nvPr/>
        </p:nvPicPr>
        <p:blipFill>
          <a:blip r:embed="rId3"/>
          <a:stretch/>
        </p:blipFill>
        <p:spPr>
          <a:xfrm>
            <a:off x="725400" y="4803840"/>
            <a:ext cx="74311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ere to find Guidance on NASA DMPs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Earth Science Data and Information System (ESDIS) has established a process for managing flight (space, airborne) projec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earthdata.nasa.gov/about-eosdis/interfac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specific document that describes data management plan requirements in the above process is called the Archiving, Distribution and User Services Requirements in EOSDIS (ADURD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disc.sci.gsfc.nasa.gov/additional/scienceTeam/documents/EvolutionRequirements.doc</a:t>
            </a:r>
            <a:r>
              <a:rPr b="0" lang="en-US" sz="2400" spc="-1" strike="noStrike" u="sng">
                <a:solidFill>
                  <a:srgbClr val="606060"/>
                </a:solidFill>
                <a:uFillTx/>
                <a:latin typeface="Helvetica Neue"/>
              </a:rPr>
              <a:t>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ASA references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Official websites for information on data management in the Earth Scien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393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science.nasa.gov/earth-science/earth-science-data/data-management-plan-guidance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393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earthdata.nasa.gov/about-eosdis/interfa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393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http://science.nasa.gov/earth-science/earth-science-data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393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http://nasascience.nasa.gov/earth-science/earth-science-data/data-information-policy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The following link is an example of the ADURD docume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39384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disc.sci.gsfc.nasa.gov/additional/scienceTeam/documents/EvolutionRequirements.doc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veral websites offer links to information about developing data management plans.  We suggest starting with the following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ttp://esip.esipfed.org/resour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gital Curation Centre Plans (Useful checklist for developing a data management plan) </a:t>
            </a:r>
            <a:r>
              <a:rPr b="0" lang="en-US" sz="2800" spc="-1" strike="noStrike" u="sng">
                <a:solidFill>
                  <a:srgbClr val="606060"/>
                </a:solidFill>
                <a:uFillTx/>
                <a:latin typeface="Helvetica Neue"/>
              </a:rPr>
              <a:t>http://www.dcc.ac.uk/resources/data-management-pla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niversity of California Curation Center (Data Planning Checklist) </a:t>
            </a:r>
            <a:r>
              <a:rPr b="0" lang="en-US" sz="2800" spc="-1" strike="noStrike" u="sng">
                <a:solidFill>
                  <a:srgbClr val="606060"/>
                </a:solidFill>
                <a:uFillTx/>
                <a:latin typeface="Helvetica Neue"/>
              </a:rPr>
              <a:t>http://www.cdlib.org/services/uc3/datamanagement/index.htm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Management and Publishing (MIT) http://libraries.mit.edu/guides/subjects/data-management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Management and Publishing (Univ of Minnesota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http://www.lib.umn.edu/datamanagement/funding#What1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Helvetica Neue"/>
              </a:rPr>
              <a:t>For more information about other agency requirements se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Helvetica Neue"/>
              </a:rPr>
              <a:t>The Case for Data Stewardship: Agency Requireme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Helvetica Neue"/>
              </a:rPr>
              <a:t>For information about developing a data management plan see the suite of modules within the following section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Helvetica Neue"/>
              </a:rPr>
              <a:t>Data Management Pla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nhoebel</dc:creator>
  <dc:description/>
  <dc:language>en-US</dc:language>
  <cp:lastModifiedBy>Ruth Duerr</cp:lastModifiedBy>
  <dcterms:modified xsi:type="dcterms:W3CDTF">2012-07-05T15:40:31Z</dcterms:modified>
  <cp:revision>63</cp:revision>
  <dc:subject/>
  <dc:title>ESIP Federation 101</dc:title>
</cp:coreProperties>
</file>